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6A1-C3E9-45BA-A2F7-61CBF82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EA5-4087-4EAF-828E-39D188A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E1A-2C77-48FD-960F-8E063B4D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7DF-BF23-4419-8B6E-65C94538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FBF-0505-47F9-A575-3C713121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A6C-33BD-4E7C-B08E-7F111E0C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020-4FB4-471A-89FC-4D157C2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F89-9E28-41A2-9654-F6B6293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CAD-264E-459B-8CDD-EA5E5C3E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5CD-D3A9-4CDB-8665-2FA15103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E54-1347-48AB-B2AF-4D63C95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3E5-8563-4139-A055-715DFD9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3347-EB88-4497-9ACD-DB623F18EA6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.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able2.5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1600200"/>
                <a:ext cx="736308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430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.2a.1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a.2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a.3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a.4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a.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a.5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fig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Fig2.6        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4:34Z</dcterms:modified>
  <cp:revision>8</cp:revision>
  <dc:subject/>
  <dc:title>PowerPoint 簡報</dc:title>
</cp:coreProperties>
</file>